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966-2906-40B0-ABC2-6A93EEAF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6A6-368D-41CF-8172-A2BF57B9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39679-E102-4DF3-87B7-68243316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CCAB9-CCDD-42CF-B145-7848488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7FA5A-01B5-4BD8-B6D3-E21DB307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8599E-0694-4EED-ABC7-D96659DA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3415F-7958-4980-BBD3-1CF3D3A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34981-1C86-4FB7-9BED-C84EB07B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6F209-6B3A-4177-8FEF-A28B1BB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4CC4E-0DB7-4B1F-BF9F-74100FEE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78741-62F3-49ED-B531-B0F1A776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3947D-77D5-45D2-8BC4-D2B45111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7C2-ABED-45B3-823C-6C30B89F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AF646-58B5-494B-9F1D-533B3B85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33921-594F-49F0-87E3-4A03B699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A4767-2959-4316-9AB4-51CB4607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2B181-447E-4B02-AA25-1C2E5E64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D760D-2B64-4B70-9382-DB4AE951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93CDA-BE3C-4073-B3B3-0DD4788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9F8B7-09B9-48D7-9013-C2BB78C2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DBDFB-74FB-4C77-B79B-6151E4C4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6E918-1FD9-4A46-9926-2117746B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259F1-279B-4BBB-ACDD-4800BF6A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C6F-9B54-49CF-AF46-10DB3B6B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9D394-AB52-4B53-B5B6-39BD5DC2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39FAD-8614-472C-88C4-C558C03A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D56A3-E204-4515-924D-9A247E1A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331A1-52FF-46A2-9872-3675376B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BAFB9-FDC5-4EFA-9623-C3BF62D9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7EC7B-454D-430C-B887-BFEB369F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72BB6-7B0E-4103-81E3-0CA1C34E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6D41F-498F-4F14-A5C1-67B5D5BD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20ECC-D5B8-467B-BB5D-38FD68D6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A49E8-C3B8-4EA3-B0C7-5ED0C09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118D-E9D2-422F-BB6E-4CDEE9D3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5595C-9B15-4546-B989-F99FD80F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79B84-A3B8-4C82-A427-2145B733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24909-5A4F-416D-9EC8-8B8D7CA3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67C39-605C-421C-AC64-44E18CB5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33A7A-4FA9-4E74-A41B-E64B9B6F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64384-B4C4-4ED4-8122-A4E06150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8B84E-9F75-4D05-AF2E-51779155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CFD67-B1B1-4BF3-8A2F-674107A9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FABF6-077D-4FDC-AA80-9139D618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C2255-76ED-46C4-8B1F-3DD15A37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A566-E75F-40AC-9517-1F7863B1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40E9B-3BF9-4BB4-B3C0-9D536DA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1CA9E-47CF-49E0-BE75-C48CCA3D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B6810-E7AA-496F-9E51-7DEF58B4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9B205-D887-4107-8A3F-ED122CE8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A099F-B777-49AE-8811-FAF3D0F7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EFA0-29AF-47EC-9B71-ECB53416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86B3-DD6F-4C86-B1DB-771BAA44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A62D-A133-4EE2-A637-9B010B92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757C-2F5F-4D89-82A9-05AFB17F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5781-3A2D-48CF-874F-B091A423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423-0AD9-4660-8961-77717BA7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527B-9F56-465D-84E9-BE61F17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C373-643F-40B7-BF73-C07B6637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B676-BAF4-49A2-A5D0-491D4A9D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AB1F-64CC-4A11-818B-02CB5B5B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35A0-5FBE-4C2A-8FA9-A1C5BEC7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7E29-24D8-4C7D-878C-D03371D1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1225-4A2B-4089-9F0D-331A0AEA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FC32-3B4A-4AFE-AA63-A5E15F17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8502-4F9F-4B0B-9342-2AB12CFA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45F28-EE4F-47A4-91F9-FE67A69E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E0A-8380-4126-87D7-0C5CE15F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95B8-DDC4-472F-A72D-15D299D3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C8F3-30AB-4E3A-BA41-2CC0646D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C9A6-0542-43A1-A3F7-CF7B6F19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7236-362E-4764-BA95-BD6785D4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BBB4-5CAE-4450-8A86-17CA460A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A83A-2A00-4F9B-B1DD-90EFD188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48AB-17D9-4859-8541-C1F2F9B6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272E6-439D-4277-80CE-747D3C9B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E134-7B55-4785-8EC0-24D58F8B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D2D0C-AB08-4B76-B116-DD2D9970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412-7989-4FDD-87BE-94F91B84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C07D-E83C-41BA-8AB0-8E9119F2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CFB9-528C-4F38-AE2B-73EBE257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86FEF-E298-4D70-8B73-761EF8C0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A859-7C55-427D-8BA1-06E28058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2DFFF-8F48-4096-9C11-FAEFEFCD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24B2-487C-4AF5-80CB-E6989FDD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BA0B5-A04D-40A3-975D-13096A2F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F3C8-0ABE-472B-95CA-18F0DC6B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FD8F-4A23-49FE-8327-2B95A637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DFEF0-B0BA-43C2-A0B4-E96DBAB1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58F-62F0-4359-9942-6732909E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6F7CF-A03D-406B-AAED-39597FDB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861F2-CF0E-44DE-911A-FB98332D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44EE6-28A0-4964-8AD0-250AE65D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11E5-B0F9-4B2B-AABF-A2BF34F3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D7F0B-443B-45A1-B846-60693648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C5E95-7C14-4D94-B742-EAD79BE8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D718-8EBE-4A14-9D00-B105E87B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3FE43-5BD9-4692-ABB9-F803359F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60D04-7205-4187-A177-27A7AA3E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2269-B342-4B05-A509-EB8996E3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E63-BC98-49D7-823F-C8DA4821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F02A4-0021-4973-81AE-ADD18EC0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60BC6-B662-49EC-B129-F926600A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6B230-E44D-425F-8402-73975DD4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4DEF-C0BF-4395-A36F-BE6393E8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3DE0F-ECD7-4A77-9DC3-C5BDA13D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F15DB-7672-4027-925F-F788522A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F6C27-5CEF-4936-BAB9-AE41909C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A3061-C1F6-42E8-A3D0-F10066B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F8773-DC8C-46DE-856C-A17DB36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C228A-968D-48E5-9062-C0378B27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B6C-C416-488B-A172-D2FF4B66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0DBB5-6062-403D-A515-934A39F0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E6DB4-D7E4-4996-9D9C-0FFB3345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8FD64-0D4E-4EA3-AA6D-D05C108F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80ED8-D858-4914-B3E0-C5E66F80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46023-E17F-4D82-8FCB-5C6C5BF7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DE7F0-32E1-45CE-9C09-CA51A259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129B0-CD3D-4DF0-91A7-51176E48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4681D-A352-4286-8CF1-7DEC9F58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5D1DF-6975-43E2-810D-22DEB889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7EBDF-1063-4C40-9E90-868DEB9E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004-146A-4A09-A923-01BD0CD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FBDDB-D954-40FD-9433-0AE00F10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E232-01C7-470A-8631-663299C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CADB5-511A-4F0A-BFFD-4A552914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D2FF2-E8A6-49EE-870B-EF7B02AF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25943-2983-4157-ACB2-8F59819F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1FFF4-A6F0-4D41-A686-496FCE30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7F6CB-ADC4-437D-84B5-9427A428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0C0C-98A8-4ABA-A42E-122C681E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39F3A-55DC-449E-AC30-CE9FF9B5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140AD-7408-4D9F-985A-B9C2E056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9C4-FFAE-43C5-A824-A04D1193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3D498-3AF0-4418-B7CC-42E6B228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274D2-9D13-40F9-94F9-F32586AA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B8CE4-B6F3-44F7-8DBC-6CC86351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509B7-4237-4AAE-AD2C-5E7D7C7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0759A-AD3B-48DD-9C71-83796659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AF63E-245D-436C-9D5E-653CA50E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D9C25-423D-4E17-9AF8-7DE2A155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C6D83-6C80-4435-9BE3-A527733C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131D5-E19D-4D20-837B-25C7893E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38934-8D9D-4218-AD1E-1D433F85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8C636-4B43-4A0A-A679-4074B403EFE6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ACF1B-961E-4DE3-B675-A90435D7BDB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788F3-825B-4663-BAE6-F2075BA09E90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96CE8-32AE-40FA-8FBD-398374CB762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3EBC8-E9AF-4902-94F2-EE73D94089ED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6D3E3-4C82-4596-8400-D9D3A6F8A83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7D02D-4106-46DB-B55C-C4EB92B3405E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FC492-CB5C-4D52-A8AB-D2A678B406B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38E25-C945-4EAC-B563-7853E7C3485E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D002A-A40C-42C8-8E09-39CC059D0D8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96281-6617-48A0-92BC-532B3C504E8C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3E986-26D9-4EA4-939E-09F9CC99A90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BEC2B-EB15-439A-8860-53A4C0C987EB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0AC8E-D3B9-4978-933A-49B3732D085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8D253-2A9F-4B31-8A63-FBD8EC6ADD22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123B0-D92A-4D3F-98A9-07916207FB4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6A3EB-4CAB-42DC-B9F1-88078A82ECF6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3155D-D3B3-4EF6-BA58-8D4E7E2BF26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30D7C-2533-45D0-9C22-FB0FFEA32486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D8BF9-A36C-4D4D-BCB3-2058CDF050E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FBF8A-699D-416A-80AE-C58C946591D7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90BC9-BCDF-450F-95C6-450F6A7CFEB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62BCE-6D7B-4715-BAEC-C68D60AAB4F7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00452-4036-4A5C-A08F-931D8D3B31F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HISPA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d4d4"/>
                </a:solidFill>
                <a:latin typeface="Gill Sans MT"/>
              </a:rPr>
              <a:t>1</a:t>
            </a:r>
            <a:r>
              <a:rPr b="0" lang="en-US" sz="2000" spc="-1" strike="noStrike" baseline="30000">
                <a:solidFill>
                  <a:srgbClr val="d4d4d4"/>
                </a:solidFill>
                <a:latin typeface="Gill Sans MT"/>
              </a:rPr>
              <a:t>st</a:t>
            </a:r>
            <a:r>
              <a:rPr b="0" lang="en-US" sz="2000" spc="-1" strike="noStrike">
                <a:solidFill>
                  <a:srgbClr val="d4d4d4"/>
                </a:solidFill>
                <a:latin typeface="Gill Sans MT"/>
              </a:rPr>
              <a:t> year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d4d4"/>
                </a:solidFill>
                <a:latin typeface="Gill Sans MT"/>
              </a:rPr>
              <a:t>1.3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2974A-8DE3-4229-935B-8CF477CD2621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MY FAMILY IS BIG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Mi familia es grande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60164-0421-436A-ACC6-68E727CFED9F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9CB3C-206A-410E-8B63-C10257FE00C4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THEIR RED JACKETS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us chaquetas roja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A799B-F58B-47AF-B746-4794F4B2ADBF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3C098-9417-4DA2-BEDA-FD0A56F5928E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OUR BLUE HOUSE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uestra casa azul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58F87-52A5-470C-91CC-8135A2554BC0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4E64B-6C58-4A6B-A984-EDD518C7D835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SRA. PRINE’S SMART STUDENT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os estudiantes inteligentes de la Sra. Prine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150AA-85A7-4E18-8055-FC2F44297B6C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1398D-22D1-4BA4-8948-221921B7EC8F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SANDRA’S RED SHIR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a camisa roja de Sandra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8CC53-9BC4-48C7-ACDD-D3DBCDF4A338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5B222-06A0-448F-8A27-852209F4DFC6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THE STUDENTS’ HOMEWORK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La tarea de los estudiantes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DD824-62AD-4FE8-8B1F-01C8CA008DFF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26F91-B204-4EEF-8B2D-EFF69370EE42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WHO’S SHOES ARE THESE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¿De quién son los zapatos?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A36FB-38E3-4AE9-9A21-DC44A2D7B0E4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2464F-1671-453B-A0BC-3AB5518B71FA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THE SHOES ARE TIMOTEO’S</a:t>
            </a: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Los zapatos son de Timoteo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58D6D-A279-45D2-9EDB-D3E35941E239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6F1CF-A081-4365-B395-25FEC2C85DCE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THE CAT IS MY FRIEND LISA’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El gato es de mi amiga Lisa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C3FC5-31A5-45BD-AFA8-25C5C0C4B43F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69327-7092-4A2F-B147-D7ECDC4B6E53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THE BROTHER OF YOUR MOTHER IS YOUR UNCL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El hermano de tu madre es tu tío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C8117-9B69-4866-90BD-B7D930C1C098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F10C5-9F85-422A-8137-2B6497F70F1B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MIGUEL’S FRIENDS (MASC) ARE VERY FUN.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os amigos de Miguel son muy divertido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FE3D6-6588-45C2-B84A-029254FCF0B8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E0557-EFA1-4A28-91D4-1DC0A22DB65F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RAFAEL AND ANDRES ARE BROTHERS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Rafael y Andres son hermano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A8949-4304-4001-99B4-2E6262C3D34D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C7A4C-E678-47EB-89AF-9D02AD212C39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7:15:22Z</dcterms:created>
  <dc:creator>Prine, Stephanie</dc:creator>
  <dc:description/>
  <dc:language>en-US</dc:language>
  <cp:lastModifiedBy>Prine, Stephanie</cp:lastModifiedBy>
  <dcterms:modified xsi:type="dcterms:W3CDTF">2013-11-15T20:22:03Z</dcterms:modified>
  <cp:revision>15</cp:revision>
  <dc:subject/>
  <dc:title>Chispas</dc:title>
</cp:coreProperties>
</file>